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tif" ContentType="image/tiff"/>
  <Override PartName="/ppt/media/image6.png" ContentType="image/png"/>
  <Override PartName="/ppt/media/image3.tif" ContentType="image/tiff"/>
  <Override PartName="/ppt/media/image7.png" ContentType="image/png"/>
  <Override PartName="/ppt/media/image4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01FA78-2F32-4973-8B1A-803A04566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Num" idx="15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84FB5C-73B6-4550-BD29-7CF9FC182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Num" idx="16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3C6D9E-A49B-400F-9384-68FE18932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52560" cy="34160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Num" idx="12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C826E6-CB78-405E-A25B-86D8EBFEC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Num" idx="13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FFB9FEE-F911-40C0-B784-729A2B67A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we come up with plots for TG network traffic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Num" idx="14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930738-3923-4F52-A55D-EBF76F264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we come up with plots for TG network traffic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CE98-CD72-4A14-AC23-096F28EE2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CBBE-7007-41E3-A1DE-624FC251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9BAF-83DD-4072-9EE5-20374848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78E7-2880-4F5A-BD95-4D2FB5C98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5940-A50E-4F13-A7B6-0804ECA1D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4B2D-A8BD-48CC-8192-20A47389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989C-01A2-4747-98A5-5F2D4718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A66A-CE03-4F6B-B9DB-3C7FE901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6608-16B6-4EDB-9C70-5F5C513F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C516-316F-4FA3-8BC4-7D960CE4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349B-8C1D-4FDD-8AE0-B9EEB948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5C3A-1EB3-4746-B45B-29602105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776F-121D-4883-BA0D-0F47B206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6CCB-D321-4114-8386-37652405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9BA5-EE7C-4D75-B9D7-40EB5CC1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1DAF-8CE5-466A-9FA1-992BC7739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F17F-C3FD-40B6-8037-D27040FAA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4877-A321-4AA2-A472-70391AB1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6869-4B7D-4A66-B5AB-FEDC4167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248A-1A93-482C-B809-AEB8D68A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2623-7CA9-418D-A4E7-F0B21472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8748-D39E-4D37-B9FF-DE97E6DD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7AFA-3572-48E1-9B6E-22525B61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239D-1CBC-410B-9FC8-4CB57F3B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 hidden="1"/>
          <p:cNvSpPr/>
          <p:nvPr/>
        </p:nvSpPr>
        <p:spPr>
          <a:xfrm>
            <a:off x="716400" y="5001840"/>
            <a:ext cx="3801600" cy="144288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" name="Freeform 11" hidden="1"/>
          <p:cNvSpPr/>
          <p:nvPr/>
        </p:nvSpPr>
        <p:spPr>
          <a:xfrm>
            <a:off x="-53640" y="5785200"/>
            <a:ext cx="3801600" cy="83772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" name="Right Triangle 13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Lucida Sans Unicode"/>
              <a:ea typeface="ＭＳ Ｐゴシック"/>
            </a:endParaRPr>
          </a:p>
        </p:txBody>
      </p:sp>
      <p:cxnSp>
        <p:nvCxnSpPr>
          <p:cNvPr id="3" name="Straight Connector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Right Triangle 9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7795"/>
              </a:gs>
              <a:gs pos="100000">
                <a:srgbClr val="4bbad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Lucida Sans Unicode"/>
              <a:ea typeface="ＭＳ Ｐゴシック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464646"/>
                </a:solidFill>
                <a:latin typeface="Lucida Sans Unicode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1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Freeform 6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8" name="Freeform 7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Lucida Sans Unicode"/>
                <a:ea typeface="ＭＳ Ｐゴシック"/>
              </a:endParaRPr>
            </a:p>
          </p:txBody>
        </p:sp>
        <p:cxnSp>
          <p:nvCxnSpPr>
            <p:cNvPr id="10" name="Straight Connector 11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196f85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e7f0f3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e7f0f3"/>
                </a:solidFill>
                <a:latin typeface="Arial"/>
                <a:ea typeface="ＭＳ Ｐゴシック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5A7F2F-337B-4C49-A555-C61645BC14B7}" type="slidenum">
              <a: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12"/>
          <p:cNvSpPr/>
          <p:nvPr/>
        </p:nvSpPr>
        <p:spPr>
          <a:xfrm>
            <a:off x="716400" y="5001840"/>
            <a:ext cx="3801600" cy="144288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52" name="Freeform 11"/>
          <p:cNvSpPr/>
          <p:nvPr/>
        </p:nvSpPr>
        <p:spPr>
          <a:xfrm>
            <a:off x="-53640" y="5785200"/>
            <a:ext cx="3801600" cy="83772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53" name="Right Triangle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Lucida Sans Unicode"/>
              <a:ea typeface="ＭＳ Ｐゴシック"/>
            </a:endParaRPr>
          </a:p>
        </p:txBody>
      </p:sp>
      <p:cxnSp>
        <p:nvCxnSpPr>
          <p:cNvPr id="54" name="Straight Connector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Master text sty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ird leve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Fourth leve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6A733D-E2D9-4578-B3CB-491CED9E4D87}" type="slidenum"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Master title styl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ti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t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video" Target="file://localhost/Users/dennis/Desktop/Work/TDDRetreat/weddell1deg.mov" TargetMode="External"/><Relationship Id="rId2" Type="http://schemas.microsoft.com/office/2007/relationships/media" Target="file://localhost/Users/dennis/Desktop/Work/TDDRetreat/weddell1deg.mov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video" Target="file://localhost/Users/dennis/Desktop/Work/NSF/cice.h264.5.23.11.mov" TargetMode="External"/><Relationship Id="rId2" Type="http://schemas.microsoft.com/office/2007/relationships/media" Target="file://localhost/Users/dennis/Desktop/Work/NSF/cice.h264.5.23.11.mo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2680" y="380880"/>
            <a:ext cx="853236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464646"/>
                </a:solidFill>
                <a:latin typeface="Lucida Sans Unicode"/>
              </a:rPr>
              <a:t>SDCI Net: An integrated study of datacenter networking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040" cy="119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rm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John Denn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dennis@ucar.ed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10"/>
          </p:nvPr>
        </p:nvSpPr>
        <p:spPr>
          <a:xfrm>
            <a:off x="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C45F3EF-D0FB-4111-A9CF-363DAF8F65DA}" type="datetime1">
              <a: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07/31/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11"/>
          </p:nvPr>
        </p:nvSpPr>
        <p:spPr>
          <a:xfrm>
            <a:off x="8153280" y="6275520"/>
            <a:ext cx="990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7ADDAD-2EF7-4EC0-8966-A056D12191F8}" type="slidenum">
              <a: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107640"/>
            <a:ext cx="8686440" cy="16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Issues/challenges with runs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04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Very large variability with I/O performanc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2-10x slowdown comm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300x slowdown was observ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terference with other job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2DA5-F5F7-42D0-93A6-89F9C0D1125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D1BAB1E-164C-4D22-BB9A-0E81663E5853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Content Placeholder 6" descr="etime.png"/>
          <p:cNvPicPr/>
          <p:nvPr/>
        </p:nvPicPr>
        <p:blipFill>
          <a:blip r:embed="rId1"/>
          <a:srcRect l="-18186" t="0" r="-18186" b="0"/>
          <a:stretch/>
        </p:blipFill>
        <p:spPr>
          <a:xfrm>
            <a:off x="457200" y="1143000"/>
            <a:ext cx="8229240" cy="45255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464646"/>
                </a:solidFill>
                <a:latin typeface="Lucida Sans Unicode"/>
              </a:rPr>
              <a:t>Execution time for non-I/O CESM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653760" y="5638680"/>
            <a:ext cx="8444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work contention/congestion in message passing net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001E-1755-43D1-BDB6-0F3EC5EDD90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61C105D-B62F-4391-BD40-DA15C809FF2B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Content Placeholder 6" descr="band.png"/>
          <p:cNvPicPr/>
          <p:nvPr/>
        </p:nvPicPr>
        <p:blipFill>
          <a:blip r:embed="rId1"/>
          <a:srcRect l="-18186" t="0" r="-18186" b="0"/>
          <a:stretch/>
        </p:blipFill>
        <p:spPr>
          <a:xfrm>
            <a:off x="457200" y="1481400"/>
            <a:ext cx="8229240" cy="45255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7000"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Write bandwidth for CESM I/O day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10"/>
          <p:cNvGrpSpPr/>
          <p:nvPr/>
        </p:nvGrpSpPr>
        <p:grpSpPr>
          <a:xfrm>
            <a:off x="2666880" y="5486400"/>
            <a:ext cx="5745600" cy="1064880"/>
            <a:chOff x="2666880" y="5486400"/>
            <a:chExt cx="5745600" cy="1064880"/>
          </a:xfrm>
        </p:grpSpPr>
        <p:cxnSp>
          <p:nvCxnSpPr>
            <p:cNvPr id="138" name="Straight Arrow Connector 8"/>
            <p:cNvCxnSpPr/>
            <p:nvPr/>
          </p:nvCxnSpPr>
          <p:spPr>
            <a:xfrm flipH="1" flipV="1">
              <a:off x="2666880" y="5486400"/>
              <a:ext cx="762480" cy="762120"/>
            </a:xfrm>
            <a:prstGeom prst="straightConnector1">
              <a:avLst/>
            </a:prstGeom>
            <a:ln>
              <a:solidFill>
                <a:srgbClr val="2da2bf"/>
              </a:solidFill>
              <a:round/>
              <a:tailEnd len="med" type="arrow" w="med"/>
            </a:ln>
          </p:spPr>
        </p:cxnSp>
        <p:sp>
          <p:nvSpPr>
            <p:cNvPr id="139" name="TextBox 9"/>
            <p:cNvSpPr/>
            <p:nvPr/>
          </p:nvSpPr>
          <p:spPr>
            <a:xfrm>
              <a:off x="3455280" y="6095880"/>
              <a:ext cx="4957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What happened on April 26, 2009 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60C8-0117-43C9-BF2A-481A7361DFFC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6F2CEB8-AD89-4E8B-84D8-CE56BD313C37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Content Placeholder 6" descr="fig6.png"/>
          <p:cNvPicPr/>
          <p:nvPr/>
        </p:nvPicPr>
        <p:blipFill>
          <a:blip r:embed="rId1"/>
          <a:srcRect l="-24578" t="0" r="-24578" b="0"/>
          <a:stretch/>
        </p:blipFill>
        <p:spPr>
          <a:xfrm>
            <a:off x="457200" y="1481400"/>
            <a:ext cx="8229240" cy="45255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1000"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Parallel I/O variability on Krake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9DB1-AFBB-45DC-820B-810F907A83D2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DB78D12-CC65-424F-9BA6-9B8CBB5382E2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nte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etaApps: TRAC-2, 28M CPU hours, ~120 TB, NICS, [2011-2012]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RAC, 590M CPU hours, ~6,000 TB, NCSA, [2012-2013]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der Review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ciDAC, 7M CPU hours, ~51 TB, NERSC [2012]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lanne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reakthrough Science, 45M CPU hours, 200 TB, NWSC [2012]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Potential climate experiment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F35E-154E-4E87-A869-35D219E4ADD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E49C672-1F77-4331-8E3F-45E8DA79B344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339120" indent="-237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urces of Dat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IC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ERSC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WSC (NCAR-Wyoming Supercomputer Center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CS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39120" indent="-237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ks of Dat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CA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WSC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CS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39120" indent="-237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sumers of Dat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CA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lorado State Universit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University of California Berkle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eorge Mason Universit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University of Miami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University of Washingt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exas A&amp;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University of Hawaii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oods Hole Oceanographic Institut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6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464646"/>
                </a:solidFill>
                <a:latin typeface="Lucida Sans Unicode"/>
              </a:rPr>
              <a:t>Potential climate experiments (con’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222F-3EE5-46B0-A014-CF89CE2F3AF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62577B1-B7E4-42C9-B32B-2868026B46CA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figure gridFTP logging for data collection [Fall,Winter 2011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rticipate in 100Gb ANI testbed work [Dec 2011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itial profiling of MPI applications [Jan 2012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rough analysis of MPI application profiling [March – July 2012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llection of gridFTP usage data [Jan – Sept 2012]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Timeline for 1st-year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6043-8BB0-4F4D-AFE2-9A912EA3342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DFD82B0-3377-4D0B-8663-F0FD556EAACD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464646"/>
                </a:solidFill>
                <a:latin typeface="Lucida Sans Unicode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040" cy="119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dennis@ucar.ed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6E02-F8F8-4A6F-AF8B-98BCE1B3F1E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FD5E6E-507A-45C2-A3EC-33A7927408D1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04920" y="1481400"/>
            <a:ext cx="42667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363600" indent="-254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LNL Grand Challenge projec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8120" indent="-22716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0.25° ATM, LND + 0.1° OCN, ICE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8120" indent="-22716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Participants: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4640" indent="-22716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Bader [PI] , McClean, Ivanova, Boyle (LLNL)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4640" indent="-22716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Bryan, Dennis, Vertenstein, Craig, Norton (NCAR)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4640" indent="-22716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Jones (LANL)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4640" indent="-22716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Worley (ORNL)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4640" indent="-22716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Jacob (ANL)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8120" indent="-22716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20 year run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High-Resolution </a:t>
            </a:r>
            <a:br>
              <a:rPr sz="4100"/>
            </a:b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CSM/CESM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8320" y="762120"/>
            <a:ext cx="426672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375480" indent="-262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SF PetaApps project: Interactive Ensembl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8280" indent="-234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0.5° ATM, LND + 0.1° OCN, ICE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8280" indent="-234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Participants: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82360" indent="-23436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Kinter [PI], Stan (COLA)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82360" indent="-23436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Kirtman (U of Miami)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82360" indent="-23436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Collins, Yelick (Berkley)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82360" indent="-23436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Bryan, Dennis, Loft, Vertenstein (NCAR)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82360" indent="-23436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Bitz (U of Washington)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8280" indent="-234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Teragrid Allocations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82360" indent="-23436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35M SU (2009)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82360" indent="-23436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28M SU (2011)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8280" indent="-234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155 year control run + several 50 year branches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55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1782-3A7F-46F0-B863-2A6C9DC7133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D8C33E8-3EC3-497E-8B9F-42189495EC2D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IPCC &amp; AR5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882440"/>
            <a:ext cx="7924320" cy="43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8000"/>
          </a:bodyPr>
          <a:p>
            <a:pPr marL="347760" indent="-243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tergovernmental Panel on Climate Change (IPCC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7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817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e IPCC assesses the scientific, technical and socio-economical information relevant for the understanding of the risk of human-induced climate change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47760" indent="-243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Fifth Assessment Report (AR5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7760" indent="-243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ESM pla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1120" indent="-21708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ntrol: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 run x 1300 yea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1120" indent="-21708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storical: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40 runs x 55 yea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1120" indent="-21708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uture: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80 runs x 95 yea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591120" indent="0">
              <a:lnSpc>
                <a:spcPct val="100000"/>
              </a:lnSpc>
              <a:spcBef>
                <a:spcPts val="323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591120" indent="0">
              <a:lnSpc>
                <a:spcPct val="100000"/>
              </a:lnSpc>
              <a:spcBef>
                <a:spcPts val="323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0,600 years of simulation/ 564 TB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8C7A-3D8C-4BEA-8C17-7107B5E842B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EE6A21E-7AB8-46DE-B4A0-66D9BC29C58F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Content Placeholder 7" descr="CESM-overview.tiff"/>
          <p:cNvPicPr/>
          <p:nvPr/>
        </p:nvPicPr>
        <p:blipFill>
          <a:blip r:embed="rId1"/>
          <a:stretch/>
        </p:blipFill>
        <p:spPr>
          <a:xfrm>
            <a:off x="-609480" y="304920"/>
            <a:ext cx="9753120" cy="60955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79C6-9650-4E67-9C85-E6134E43EA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1ECAFD3-26AB-4C75-ADC0-3B8346EDC59A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mate Modeling?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upled models Atmosphere-Ocean-Sea Ice-Lan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hallenges of climate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eed many years --&gt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imits resolution --&gt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imits parallelis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Community Earth System Model (CESM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621720" indent="0">
              <a:lnSpc>
                <a:spcPct val="90000"/>
              </a:lnSpc>
              <a:spcBef>
                <a:spcPts val="323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ormally: Community Climate System Model (CCSM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4981-084F-47D6-A599-B732F74302E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9781131-252C-47E3-B839-68F40E03A85B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331920" indent="-232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</a:pPr>
            <a:r>
              <a:rPr b="0" lang="en-US" sz="1940" spc="-1" strike="noStrike">
                <a:solidFill>
                  <a:srgbClr val="000000"/>
                </a:solidFill>
                <a:latin typeface="Arial"/>
                <a:ea typeface="Chalkboard"/>
              </a:rPr>
              <a:t>NCAR: </a:t>
            </a:r>
            <a:endParaRPr b="0" lang="en-US" sz="194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D. Bailey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F. Bryan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T. Craig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B. Eaton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J. Edwards [IBM]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N. Hearn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K. Lindsay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N. Norton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M. Vertenstein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</a:pPr>
            <a:r>
              <a:rPr b="0" lang="en-US" sz="1940" spc="-1" strike="noStrike">
                <a:solidFill>
                  <a:srgbClr val="000000"/>
                </a:solidFill>
                <a:latin typeface="Arial"/>
                <a:ea typeface="Chalkboard"/>
              </a:rPr>
              <a:t>COLA:</a:t>
            </a:r>
            <a:endParaRPr b="0" lang="en-US" sz="194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J. Kinter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C. Stan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</a:pPr>
            <a:r>
              <a:rPr b="0" lang="en-US" sz="1940" spc="-1" strike="noStrike">
                <a:solidFill>
                  <a:srgbClr val="000000"/>
                </a:solidFill>
                <a:latin typeface="Arial"/>
                <a:ea typeface="Chalkboard"/>
              </a:rPr>
              <a:t>U. Miami</a:t>
            </a:r>
            <a:endParaRPr b="0" lang="en-US" sz="194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640" spc="-1" strike="noStrike">
                <a:solidFill>
                  <a:srgbClr val="000000"/>
                </a:solidFill>
                <a:latin typeface="Arial"/>
                <a:ea typeface="Chalkboard"/>
              </a:rPr>
              <a:t>B. Kirtman</a:t>
            </a:r>
            <a:endParaRPr b="0" lang="en-US" sz="164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</a:pPr>
            <a:r>
              <a:rPr b="0" lang="en-US" sz="1940" spc="-1" strike="noStrike">
                <a:solidFill>
                  <a:srgbClr val="000000"/>
                </a:solidFill>
                <a:latin typeface="Arial"/>
                <a:ea typeface="Chalkboard"/>
              </a:rPr>
              <a:t>U.C. Berkeley</a:t>
            </a:r>
            <a:endParaRPr b="0" lang="en-US" sz="194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W. Collins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K. Yelick (NERSC)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</a:pPr>
            <a:r>
              <a:rPr b="0" lang="en-US" sz="1940" spc="-1" strike="noStrike">
                <a:solidFill>
                  <a:srgbClr val="000000"/>
                </a:solidFill>
                <a:latin typeface="Arial"/>
                <a:ea typeface="Chalkboard"/>
              </a:rPr>
              <a:t>U. Washington</a:t>
            </a:r>
            <a:endParaRPr b="0" lang="en-US" sz="194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C. Bitz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Acknowledg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05520" y="1295280"/>
            <a:ext cx="4038120" cy="51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</a:pPr>
            <a:r>
              <a:rPr b="0" lang="en-US" sz="194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Grant Support:</a:t>
            </a:r>
            <a:endParaRPr b="0" lang="en-US" sz="194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94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DOE</a:t>
            </a:r>
            <a:endParaRPr b="0" lang="en-US" sz="194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DE-FC03-97ER62402 [SciDAC]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DE-PS02-07ER07-06 [SciDAC]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94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NSF </a:t>
            </a:r>
            <a:endParaRPr b="0" lang="en-US" sz="194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Cooperative Grant NSF01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OCI-0749206 [PetaApps]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CNS-0421498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CNS-0420873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CNS-0420985 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</a:pPr>
            <a:r>
              <a:rPr b="0" lang="en-US" sz="194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Computer Allocations:</a:t>
            </a:r>
            <a:endParaRPr b="0" lang="en-US" sz="194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TeraGrid TRAC @ NICS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DOE INCITE @ NERSC 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LLNL Grand Challenge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Thanks for Assistance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Cray, NICS, and NERSC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2590920" y="1523880"/>
            <a:ext cx="2819160" cy="4343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halkboard"/>
              </a:rPr>
              <a:t>N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halkboard"/>
              </a:rPr>
              <a:t>M. Fah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halkboard"/>
              </a:rPr>
              <a:t>P. Kov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halkboard"/>
              </a:rPr>
              <a:t>AN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halkboard"/>
              </a:rPr>
              <a:t>R. Jaco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halkboard"/>
              </a:rPr>
              <a:t>R. Lo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halkboard"/>
              </a:rPr>
              <a:t>LAN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halkboard"/>
              </a:rPr>
              <a:t>E. Hun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halkboard"/>
              </a:rPr>
              <a:t>P. J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halkboard"/>
              </a:rPr>
              <a:t>M. Maltr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halkboard"/>
              </a:rPr>
              <a:t>LLN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halkboard"/>
              </a:rPr>
              <a:t>D. B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halkboard"/>
              </a:rPr>
              <a:t>D. Ivano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halkboard"/>
              </a:rPr>
              <a:t>J. McClean (Scrip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halkboard"/>
              </a:rPr>
              <a:t>A. Mir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halkboard"/>
              </a:rPr>
              <a:t>ORNL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halkboard"/>
              </a:rPr>
              <a:t>P. Worl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1"/>
              </a:spcBef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1"/>
              </a:spcBef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1"/>
          <p:cNvSpPr/>
          <p:nvPr/>
        </p:nvSpPr>
        <p:spPr>
          <a:xfrm>
            <a:off x="2578320" y="5943600"/>
            <a:ext cx="26028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halkboard"/>
              </a:rPr>
              <a:t>and many m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7736-874D-45DC-AC51-557179BA53F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65C6A06-F40E-451F-B55B-CF547713456C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Content Placeholder 6" descr="CESM-usage.tiff"/>
          <p:cNvPicPr/>
          <p:nvPr/>
        </p:nvPicPr>
        <p:blipFill>
          <a:blip r:embed="rId1"/>
          <a:stretch/>
        </p:blipFill>
        <p:spPr>
          <a:xfrm>
            <a:off x="0" y="304920"/>
            <a:ext cx="9143640" cy="60955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F7AD-9531-4A3C-A090-1F835AC4018E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C9D99B9-CF21-4886-8FE7-960037C12EE8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464646"/>
                </a:solidFill>
                <a:latin typeface="Lucida Sans Unicode"/>
              </a:rPr>
              <a:t>How to efficient utilize very large computer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040" cy="119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Autofit/>
          </a:bodyPr>
          <a:p>
            <a:pPr indent="0" algn="ctr">
              <a:buNone/>
            </a:pPr>
            <a:endParaRPr b="0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1644-EC95-49FD-8390-10A3062CEA3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8976DE-663C-4CC0-9884-E19B04E3176D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464646"/>
                </a:solidFill>
                <a:latin typeface="Lucida Sans Unicode"/>
              </a:rPr>
              <a:t>NSF PetaApps project (OCI-07920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7000"/>
          </a:bodyPr>
          <a:p>
            <a:pPr marL="343800" indent="-240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etaApps project: Interactive Ensembl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4640" indent="-2145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Kinter, Stan (COLA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4640" indent="-2145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Kirtman (U of Miami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4640" indent="-2145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llins, Yelick (Berkley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4640" indent="-2145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ryan, Dennis, Loft, Vertenstein (NCAR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4640" indent="-2145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itz (U of Washington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800" indent="-240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Ultra-High resolution climat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4640" indent="-2145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Explore impact of weather noise on Climate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4640" indent="-2145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Explore technical/Computer Science issues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800" indent="-240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~99,000 core Cray XT5 system at NICS [Kraken]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800" indent="-240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arge TG allocation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4640" indent="-2145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35M CPU hours [2009]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4640" indent="-2145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28M CPU hours [2011]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DF8C-3524-4929-874C-594E89B0D11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81172F3-B4E6-4848-BD89-71A8A846C807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Weddell Sea:</a:t>
            </a:r>
            <a:br>
              <a:rPr sz="4100"/>
            </a:b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Ice thickness (1°)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935000" y="1882800"/>
            <a:ext cx="5270040" cy="395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A494-2D57-430D-B280-73683FD32AC0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BE99958-8A5F-464F-A4F7-833BD7712297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delay="0" evt="onClick">
                    <p:tgtEl>
                      <p:spTgt spid="115"/>
                    </p:tgtEl>
                  </p:cond>
                </p:stCondLst>
                <p:childTnLst>
                  <p:par>
                    <p:cTn id="43" fill="hold">
                      <p:stCondLst>
                        <p:cond delay="0"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buNone/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11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9210-2583-4468-8003-AE0C95155CAA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93A2913-6CC9-4466-AA4F-24E3692E05C2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delay="0" evt="onClick">
                    <p:tgtEl>
                      <p:spTgt spid="117"/>
                    </p:tgtEl>
                  </p:cond>
                </p:stCondLst>
                <p:childTnLst>
                  <p:par>
                    <p:cTn id="49" fill="hold">
                      <p:stCondLst>
                        <p:cond delay="0"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2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040" cy="40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mponent configura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0.1° Ocean model [3600 x 2400 x 42]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0.1°  Sea-ice model [3600 x 2400 x 20]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0.5° Atmosphere  [576 x 384 x 26]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0.5° Land  [576 x 384]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tatistic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~18M CPU hou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5844 cores for 4-5 month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~100 TB of data generat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0.5 to 1 TB per wall clock day generat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249120" y="107640"/>
            <a:ext cx="836100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Large scale PetaApps ru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27"/>
          <p:cNvGrpSpPr/>
          <p:nvPr/>
        </p:nvGrpSpPr>
        <p:grpSpPr>
          <a:xfrm>
            <a:off x="6007320" y="2971800"/>
            <a:ext cx="3044520" cy="1522080"/>
            <a:chOff x="6007320" y="2971800"/>
            <a:chExt cx="3044520" cy="1522080"/>
          </a:xfrm>
        </p:grpSpPr>
        <p:sp>
          <p:nvSpPr>
            <p:cNvPr id="121" name="Right Bracket 16"/>
            <p:cNvSpPr/>
            <p:nvPr/>
          </p:nvSpPr>
          <p:spPr>
            <a:xfrm>
              <a:off x="6934320" y="2971800"/>
              <a:ext cx="75960" cy="685440"/>
            </a:xfrm>
            <a:prstGeom prst="rightBracket">
              <a:avLst>
                <a:gd name="adj" fmla="val 8333"/>
              </a:avLst>
            </a:prstGeom>
            <a:noFill/>
            <a:ln>
              <a:solidFill>
                <a:srgbClr val="da1f28"/>
              </a:solidFill>
              <a:round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2">
              <a:schemeClr val="accent1"/>
            </a:lnRef>
            <a:fillRef idx="0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endParaRPr>
            </a:p>
          </p:txBody>
        </p:sp>
        <p:sp>
          <p:nvSpPr>
            <p:cNvPr id="122" name="TextBox 7"/>
            <p:cNvSpPr/>
            <p:nvPr/>
          </p:nvSpPr>
          <p:spPr>
            <a:xfrm>
              <a:off x="6007320" y="4038480"/>
              <a:ext cx="3044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chemeClr val="accent2"/>
                  </a:solidFill>
                  <a:latin typeface="Arial"/>
                  <a:ea typeface="ＭＳ Ｐゴシック"/>
                </a:rPr>
                <a:t>4x current p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3" name="Straight Arrow Connector 11"/>
            <p:cNvCxnSpPr/>
            <p:nvPr/>
          </p:nvCxnSpPr>
          <p:spPr>
            <a:xfrm flipH="1" flipV="1">
              <a:off x="7162560" y="3352680"/>
              <a:ext cx="686160" cy="686160"/>
            </a:xfrm>
            <a:prstGeom prst="straightConnector1">
              <a:avLst/>
            </a:prstGeom>
            <a:ln w="38100">
              <a:solidFill>
                <a:srgbClr val="da1f28"/>
              </a:solidFill>
              <a:round/>
              <a:tailEnd len="med" type="arrow" w="med"/>
            </a:ln>
          </p:spPr>
        </p:cxnSp>
      </p:grpSp>
      <p:grpSp>
        <p:nvGrpSpPr>
          <p:cNvPr id="124" name="Group 24"/>
          <p:cNvGrpSpPr/>
          <p:nvPr/>
        </p:nvGrpSpPr>
        <p:grpSpPr>
          <a:xfrm>
            <a:off x="5503680" y="1371600"/>
            <a:ext cx="3382920" cy="1599840"/>
            <a:chOff x="5503680" y="1371600"/>
            <a:chExt cx="3382920" cy="1599840"/>
          </a:xfrm>
        </p:grpSpPr>
        <p:sp>
          <p:nvSpPr>
            <p:cNvPr id="125" name="TextBox 6"/>
            <p:cNvSpPr/>
            <p:nvPr/>
          </p:nvSpPr>
          <p:spPr>
            <a:xfrm>
              <a:off x="5503680" y="1371600"/>
              <a:ext cx="33829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chemeClr val="accent2"/>
                  </a:solidFill>
                  <a:latin typeface="Arial"/>
                  <a:ea typeface="ＭＳ Ｐゴシック"/>
                </a:rPr>
                <a:t>100x current p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6" name="Straight Arrow Connector 13"/>
            <p:cNvCxnSpPr/>
            <p:nvPr/>
          </p:nvCxnSpPr>
          <p:spPr>
            <a:xfrm flipH="1">
              <a:off x="7924680" y="1904760"/>
              <a:ext cx="457560" cy="686160"/>
            </a:xfrm>
            <a:prstGeom prst="straightConnector1">
              <a:avLst/>
            </a:prstGeom>
            <a:ln w="38100">
              <a:solidFill>
                <a:srgbClr val="da1f28"/>
              </a:solidFill>
              <a:round/>
              <a:tailEnd len="med" type="arrow" w="med"/>
            </a:ln>
          </p:spPr>
        </p:cxnSp>
        <p:sp>
          <p:nvSpPr>
            <p:cNvPr id="127" name="Right Bracket 22"/>
            <p:cNvSpPr/>
            <p:nvPr/>
          </p:nvSpPr>
          <p:spPr>
            <a:xfrm>
              <a:off x="7772400" y="2057400"/>
              <a:ext cx="72720" cy="914040"/>
            </a:xfrm>
            <a:prstGeom prst="rightBracket">
              <a:avLst>
                <a:gd name="adj" fmla="val 8333"/>
              </a:avLst>
            </a:prstGeom>
            <a:noFill/>
            <a:ln w="38100">
              <a:solidFill>
                <a:srgbClr val="da1f28"/>
              </a:solidFill>
              <a:round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2">
              <a:schemeClr val="accent1"/>
            </a:lnRef>
            <a:fillRef idx="0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8B1C-3C78-4D18-A45B-266C5FF7F9F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6295373-9C38-43CA-B15D-CA70AAB36198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07640"/>
            <a:ext cx="8361000" cy="14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Large scale PetaApps run (con’t)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040" cy="40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ork flow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un on Kraken (NIC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ransfer output from NICS to NCAR (100 – 180 MB/sec sustained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rchive on HPS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ata analysis using 55 TB project space at NC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651A-983D-4421-80EB-C4256C684FF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3CF4279-EDD3-4C52-A23F-774985FDDCC3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Concourse">
  <a:themeElements>
    <a:clrScheme name="Concourse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oncourse">
  <a:themeElements>
    <a:clrScheme name="Concourse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.thmx</Template>
  <TotalTime>5091</TotalTime>
  <Application>LibreOffice/7.4.7.2$Linux_X86_64 LibreOffice_project/40$Build-2</Application>
  <AppVersion>15.0000</AppVersion>
  <Words>1043</Words>
  <Paragraphs>231</Paragraphs>
  <Company>John Dennis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30T12:42:27Z</dcterms:created>
  <dc:creator>John Dennis</dc:creator>
  <dc:description/>
  <dc:language>en-US</dc:language>
  <cp:lastModifiedBy>John Dennis</cp:lastModifiedBy>
  <dcterms:modified xsi:type="dcterms:W3CDTF">2011-09-30T15:54:19Z</dcterms:modified>
  <cp:revision>103</cp:revision>
  <dc:subject/>
  <dc:title>Scaling CCSM to a Petascale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2</vt:r8>
  </property>
  <property fmtid="{D5CDD505-2E9C-101B-9397-08002B2CF9AE}" pid="3" name="Notes">
    <vt:r8>5</vt:r8>
  </property>
  <property fmtid="{D5CDD505-2E9C-101B-9397-08002B2CF9AE}" pid="4" name="PresentationFormat">
    <vt:lpwstr>On-screen Show (4:3)</vt:lpwstr>
  </property>
  <property fmtid="{D5CDD505-2E9C-101B-9397-08002B2CF9AE}" pid="5" name="Slides">
    <vt:r8>21</vt:r8>
  </property>
</Properties>
</file>